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588-9254-4BA6-A0FB-D579BE96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D5F8-73A8-4D4A-82EF-F91A08D9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1BB5-23CD-4502-AC77-48AEC1C9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118B-5EB4-4AC2-BEBB-30637F46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8481-3895-4047-ACF5-0F138DD2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FAFB-9BD2-4270-8882-8BB6B5CF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5768-DBE6-421A-8A68-26E18325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21E3-21E6-4348-8421-FBF480B1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9186-A2FF-442C-B6E2-2F4B619E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12D0-D71B-494E-8971-4F46A18C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3734-640F-4CC3-8AED-A0F33E05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ACB2-7283-4F8F-98AE-06D0B932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A770-852E-4BF9-B9A5-0B92FC3E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B814-3021-4F6A-AE8D-5B75786F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2DB4-EAC6-4CB3-8E93-3FD11312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5DEF-09AD-4C68-9CA1-1976282A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4DB7-569F-4F91-A962-F8F891C6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21D7-B922-4C3B-9371-20BBD17D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315-2F29-49CD-A90B-5D3DA527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DAC-0133-4AC3-A34B-B819B2F1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4615-8271-4698-8808-3C5654DB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3026-7018-4F45-93BC-6AA48D1A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D46-168F-45DA-AD8A-ABC5BB79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DFF6-424F-4509-8BEF-7FAC8E63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43FA-84DA-461F-941E-E8C336387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A27E-8827-4F1D-A9D7-E37C5211E75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and Respon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Background Knowledge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ry repeats itself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30’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Vocabulary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rge busi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- to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green’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rugs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y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lothing 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electr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Motors - ca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Vocabulary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rge busi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- 19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Mot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ation Milk C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i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 Match Co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hoe C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h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Grain Corpo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Vocabulary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buy property, shares in a corporation, or produ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you hope their value will go 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you can make a profit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Vocabulary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v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ves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ves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Vocabulary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o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res of own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 comp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Vocabulary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ck ex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organized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buying and s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ock (shares in corporatio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Preview of Article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2971800"/>
            <a:ext cx="424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2520" y="1987560"/>
            <a:ext cx="6590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phic Organiz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uses of Great De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and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vernment responses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at Depress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Vocabulary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ressed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Vocabulary/background knowledge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 long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hen the economy is 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ny people do not have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Background Knowledge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11400" y="20178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Vocabulary/background knowledge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41600" y="2017800"/>
            <a:ext cx="3254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Vocabulary/background knowledge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309760" y="2017800"/>
            <a:ext cx="551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Background Knowledge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36840" y="2017800"/>
            <a:ext cx="526428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293400" y="6512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22000" y="1978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Background knowledge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6160" y="2017800"/>
            <a:ext cx="516564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242280" y="653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reat Depression</a:t>
            </a:r>
            <a:br>
              <a:rPr sz="4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efore Reading - Background Knowledge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51240" y="2017800"/>
            <a:ext cx="523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2:02:03Z</dcterms:created>
  <dc:creator>Archer Anita</dc:creator>
  <dc:description/>
  <dc:language>en-US</dc:language>
  <cp:lastModifiedBy>Archer Anita</cp:lastModifiedBy>
  <dcterms:modified xsi:type="dcterms:W3CDTF">2009-01-12T03:31:10Z</dcterms:modified>
  <cp:revision>2</cp:revision>
  <dc:subject/>
  <dc:title>The Great Depression </dc:title>
</cp:coreProperties>
</file>